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FD8-E88B-4449-85A8-19C930EB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4C4-4007-4A55-8063-ED5F1C34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096-6997-4D1D-A205-63F1CCCE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F6F-568C-43E5-A524-8D12BA56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9D70-F2F3-4A1F-9AAA-E4E91E1B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82C7-5EA2-4B4A-8148-478242E9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2007-BBAD-43DA-89AE-CF099C4B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1565-88E3-4186-BDC2-BC8F3FC7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6457-CF1E-4020-87AD-289FBA5D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7583-1E62-480A-A1CA-1FB27716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D566-43D4-46C3-BF34-EA5517AE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52C-0F19-4ECB-9C6D-02EAFA11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5D62-36AD-40FF-B1C7-714C556B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0862-6997-4C7F-AC14-45754CFF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2165-C2E5-4CD1-A4ED-9D786ED3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9F49-6764-4F37-AF35-ACD8DEFB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675F-0C59-4940-B789-8DEBDC16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97A-26DB-49BF-8D61-1CC75B65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9653-2435-4578-8E81-2FBCD9DB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F2F-EA17-4206-BECC-444618FF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4E4-7DAA-409E-8C47-980A68C4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288-0D1C-416F-AE3E-E345B682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4C8-687B-4780-BD3B-EAA8C588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337-716F-4C9B-8C61-5862EDAA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2F2E-0889-49B9-85DA-E78149A80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F442-F563-4D2D-ACD0-1C2489328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914400" y="380880"/>
            <a:ext cx="79246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ahoma"/>
              </a:rPr>
              <a:t>Habit #2</a:t>
            </a:r>
            <a:br>
              <a:rPr sz="10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egin with the End in Mi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work Stephen Co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finish_line"/>
          <p:cNvPicPr/>
          <p:nvPr/>
        </p:nvPicPr>
        <p:blipFill>
          <a:blip r:embed="rId1"/>
          <a:stretch/>
        </p:blipFill>
        <p:spPr>
          <a:xfrm>
            <a:off x="3886200" y="5029200"/>
            <a:ext cx="2333520" cy="15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809880" y="533520"/>
            <a:ext cx="434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Journal Entry 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iscussion Start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362320" y="2666880"/>
            <a:ext cx="54864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How does saying “no” sometimes help you with “beginning with the end in mind”?  What things do you have to say no to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457200" y="533520"/>
            <a:ext cx="28954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34f00"/>
                  </a:solidFill>
                  <a:miter/>
                </a:ln>
                <a:solidFill>
                  <a:srgbClr val="834f00"/>
                </a:solidFill>
                <a:latin typeface="Tahoma"/>
              </a:rPr>
              <a:t>"NO."</a:t>
            </a:r>
            <a:endParaRPr b="0" lang="en-US" sz="1800" spc="1" strike="noStrike">
              <a:ln w="9360">
                <a:solidFill>
                  <a:srgbClr val="834f00"/>
                </a:solidFill>
                <a:miter/>
              </a:ln>
              <a:solidFill>
                <a:srgbClr val="834f00"/>
              </a:soli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143000" y="3657600"/>
            <a:ext cx="678168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Finish these sentences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~If I my future had no limits, I would choose to be…..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~I want to be a person who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future_clip_art"/>
          <p:cNvPicPr/>
          <p:nvPr/>
        </p:nvPicPr>
        <p:blipFill>
          <a:blip r:embed="rId1"/>
          <a:stretch/>
        </p:blipFill>
        <p:spPr>
          <a:xfrm>
            <a:off x="2362320" y="380880"/>
            <a:ext cx="4038480" cy="28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u="sng">
                <a:solidFill>
                  <a:srgbClr val="000000"/>
                </a:solidFill>
                <a:uFillTx/>
                <a:latin typeface="Tahoma"/>
              </a:rPr>
              <a:t>Credits</a:t>
            </a: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46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s slide show was created b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ebecca Radicchi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using the following resour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057400" y="2971800"/>
            <a:ext cx="62485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The Seven Habits for Highly Effective Peop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by Stephen Cov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The Seven Habits for Highly Effective Kid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by Sean Cov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ahoma"/>
              </a:rPr>
              <a:t>The Seven Habits for Highly Effective Teens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by Sean Cov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533520" y="3352680"/>
            <a:ext cx="79246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 plan ahead and set goals. I do things that have meaning and make a difference. I am an important part of my classroom. I look for ways to be a good citize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goal-2007-749865"/>
          <p:cNvPicPr/>
          <p:nvPr/>
        </p:nvPicPr>
        <p:blipFill>
          <a:blip r:embed="rId1"/>
          <a:stretch/>
        </p:blipFill>
        <p:spPr>
          <a:xfrm>
            <a:off x="2438280" y="380880"/>
            <a:ext cx="4051440" cy="304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914400" y="762120"/>
            <a:ext cx="434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Journal Entry 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iscussion Start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133720" y="2971800"/>
            <a:ext cx="60958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What is “the end” for you?  What do you hope to be doing ten years from now?  Twenty?  Make a list of things you want to do in your lif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telescope"/>
          <p:cNvPicPr/>
          <p:nvPr/>
        </p:nvPicPr>
        <p:blipFill>
          <a:blip r:embed="rId1"/>
          <a:stretch/>
        </p:blipFill>
        <p:spPr>
          <a:xfrm>
            <a:off x="5715000" y="457200"/>
            <a:ext cx="2149560" cy="214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1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1905120"/>
            <a:ext cx="533376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Before you figure out the “end”, you have to take a look at who YOU are!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raw a picture of something that represents you.  It could be an animal, plant, machine, a food, etc.  Explain why you chose what you di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t_16427"/>
          <p:cNvPicPr/>
          <p:nvPr/>
        </p:nvPicPr>
        <p:blipFill>
          <a:blip r:embed="rId1"/>
          <a:stretch/>
        </p:blipFill>
        <p:spPr>
          <a:xfrm>
            <a:off x="380880" y="1600200"/>
            <a:ext cx="2843280" cy="371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newspaper_clip_art"/>
          <p:cNvPicPr/>
          <p:nvPr/>
        </p:nvPicPr>
        <p:blipFill>
          <a:blip r:embed="rId1"/>
          <a:stretch/>
        </p:blipFill>
        <p:spPr>
          <a:xfrm>
            <a:off x="3048120" y="3505320"/>
            <a:ext cx="3135240" cy="2765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6"/>
          <p:cNvSpPr/>
          <p:nvPr/>
        </p:nvSpPr>
        <p:spPr>
          <a:xfrm>
            <a:off x="762120" y="685800"/>
            <a:ext cx="7696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n ten years a newspaper decides to do a story about YOU!  They interview four people about you.  These could be friends or family.  What would you want them to say about y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ission Statement, Part 1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your name in a circle.  Out from the circle, write words that describe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429000" y="2971800"/>
            <a:ext cx="2743200" cy="1523880"/>
          </a:xfrm>
          <a:prstGeom prst="ellipse">
            <a:avLst/>
          </a:prstGeom>
          <a:solidFill>
            <a:srgbClr val="fac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733920" y="342900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6172200" y="1981080"/>
            <a:ext cx="2286000" cy="914400"/>
          </a:xfrm>
          <a:prstGeom prst="ellipse">
            <a:avLst/>
          </a:prstGeom>
          <a:solidFill>
            <a:srgbClr val="fac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6553080" y="4419720"/>
            <a:ext cx="1905120" cy="761760"/>
          </a:xfrm>
          <a:prstGeom prst="ellipse">
            <a:avLst/>
          </a:prstGeom>
          <a:solidFill>
            <a:srgbClr val="fac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1066680" y="1981080"/>
            <a:ext cx="1905120" cy="762120"/>
          </a:xfrm>
          <a:prstGeom prst="ellipse">
            <a:avLst/>
          </a:prstGeom>
          <a:solidFill>
            <a:srgbClr val="fac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9"/>
          <p:cNvSpPr/>
          <p:nvPr/>
        </p:nvSpPr>
        <p:spPr>
          <a:xfrm>
            <a:off x="2666880" y="5334120"/>
            <a:ext cx="1905120" cy="761760"/>
          </a:xfrm>
          <a:prstGeom prst="ellipse">
            <a:avLst/>
          </a:prstGeom>
          <a:solidFill>
            <a:srgbClr val="fac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858000" y="457200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ki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705720" y="2133720"/>
            <a:ext cx="1523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athle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371600" y="213372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artis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95480" y="548640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rea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 flipH="1">
            <a:off x="3809880" y="44197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 flipV="1">
            <a:off x="5943600" y="28191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5943600" y="4191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 flipV="1">
            <a:off x="2666520" y="26665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066680" y="3808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ission Statement, Part 2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think about what kind of person you WANT to be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90920" y="1828800"/>
            <a:ext cx="4952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 want to be 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rd wo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ood 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ind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alented ar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1066680" y="38088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ission Statement, Part 3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two lists to write a mission statement.  This is a sentence or paragraph about the person you want to be.  Here are some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057400" y="2133720"/>
            <a:ext cx="6172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y mission is t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augh a lo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earn as much I c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ork hard at home, school and in my s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e kind to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ake good care of myself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o get better at my ar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ow good are you at beginning with the end in min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57200" y="2971800"/>
            <a:ext cx="20574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 always keep the end in mi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934320" y="3200400"/>
            <a:ext cx="2209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 only think about tod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495680" y="5181480"/>
            <a:ext cx="4191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Why did you rate yourself this wa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0" y="1752480"/>
            <a:ext cx="8686800" cy="1295640"/>
          </a:xfrm>
          <a:prstGeom prst="leftRightArrow">
            <a:avLst>
              <a:gd name="adj1" fmla="val 43630"/>
              <a:gd name="adj2" fmla="val 58324"/>
            </a:avLst>
          </a:prstGeom>
          <a:solidFill>
            <a:srgbClr val="fac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2:18:49Z</dcterms:created>
  <dc:creator>Cobb County School District</dc:creator>
  <dc:description/>
  <dc:language>en-US</dc:language>
  <cp:lastModifiedBy>NHBOE</cp:lastModifiedBy>
  <dcterms:modified xsi:type="dcterms:W3CDTF">2013-11-22T16:44:16Z</dcterms:modified>
  <cp:revision>18</cp:revision>
  <dc:subject/>
  <dc:title>The Seven Habits of Highly Effective People</dc:title>
</cp:coreProperties>
</file>